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F9D-4A87-4E36-B2B2-98A44518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4A1-3EB0-46AE-A21A-41AF74E8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EB2-2DE4-44A3-943D-46D4FC01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6FD-744F-4208-88B5-360819AA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39D-6934-4FB1-856D-4C88A87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45E-B612-40DB-BA66-9CFB0670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C8F-2A7A-426F-B425-2967144B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0FD-47E7-483F-BD1E-1308F41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851-DD88-4CAB-BEC0-B0F6DCB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22D-9DD9-44E1-990D-27BA4ED1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0CF-6818-4351-A21B-CFA6124F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804-340B-4C22-A560-8F5B3C2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9316-10D4-4A95-A6CE-DE9029B9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708280"/>
            <a:ext cx="2384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67280" y="2060640"/>
            <a:ext cx="1089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40464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tenc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32360" y="3213000"/>
            <a:ext cx="403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7*7*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1916280"/>
            <a:ext cx="1511280" cy="165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205000"/>
            <a:ext cx="3384720" cy="3743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92360" y="2060640"/>
            <a:ext cx="43164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635280" y="5517720"/>
            <a:ext cx="1152720" cy="574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32360" y="5805360"/>
            <a:ext cx="259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base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51640" y="184464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xponente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División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4931280" y="393264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653000"/>
            <a:ext cx="158292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5964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4797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12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0836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6600"/>
                </a:solidFill>
                <a:uFillTx/>
                <a:latin typeface="Arial"/>
              </a:rPr>
              <a:t>Potencia de una po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416720" cy="7923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s-ES" sz="5400" spc="-1" strike="noStrike" baseline="30000">
                <a:solidFill>
                  <a:srgbClr val="ff99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0066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3213000"/>
            <a:ext cx="165564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8000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357720"/>
            <a:ext cx="1726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5640" y="3213000"/>
            <a:ext cx="0" cy="360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71636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581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5928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9933"/>
                </a:solidFill>
                <a:uFillTx/>
                <a:latin typeface="Arial"/>
              </a:rPr>
              <a:t>Orden en las op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aréntesi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9933"/>
                </a:solidFill>
                <a:latin typeface="Arial"/>
              </a:rPr>
              <a:t>(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tencia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s-ES" sz="4400" spc="-1" strike="noStrike" baseline="30000">
                <a:solidFill>
                  <a:srgbClr val="0033cc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ltiplicación y división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ma y resta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2098800"/>
                <a:gridCol w="6130800"/>
              </a:tblGrid>
              <a:tr h="65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-&gt; cinco elevado al cub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le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dra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qui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x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épt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ct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1979640" y="333360"/>
            <a:ext cx="152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274680"/>
          <a:ext cx="8229600" cy="5821200"/>
        </p:xfrm>
        <a:graphic>
          <a:graphicData uri="http://schemas.openxmlformats.org/drawingml/2006/table">
            <a:tbl>
              <a:tblPr/>
              <a:tblGrid>
                <a:gridCol w="1378080"/>
                <a:gridCol w="4108320"/>
                <a:gridCol w="2743200"/>
              </a:tblGrid>
              <a:tr h="836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tencias co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mpos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*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Descomponer en base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2.346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</a:t>
            </a:r>
            <a:r>
              <a:rPr b="0" lang="es-ES" sz="32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</a:t>
            </a:r>
            <a:r>
              <a:rPr b="0" lang="es-ES" sz="3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</a:t>
            </a:r>
            <a:r>
              <a:rPr b="0" lang="es-E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63640" y="270828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86064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Simplific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15.600 = 156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230 = 23 *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692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opiedades de las pote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484280"/>
            <a:ext cx="4248000" cy="4411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 =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34.6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1484280"/>
            <a:ext cx="4105080" cy="44114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0033cc"/>
                </a:solidFill>
                <a:uFillTx/>
                <a:latin typeface="Arial"/>
              </a:rPr>
              <a:t>0</a:t>
            </a: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Producto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exp.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3xp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Producto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500280"/>
            <a:ext cx="820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3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60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472000" y="3608280"/>
            <a:ext cx="432000" cy="1657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653000"/>
            <a:ext cx="223200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1200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357720"/>
            <a:ext cx="403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0000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6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3213000"/>
            <a:ext cx="3383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6400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4797360"/>
            <a:ext cx="55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04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5128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División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4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0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3213000"/>
            <a:ext cx="201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3357720"/>
            <a:ext cx="295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6836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06:02Z</dcterms:created>
  <dc:creator>WinuE</dc:creator>
  <dc:description/>
  <dc:language>en-US</dc:language>
  <cp:lastModifiedBy>pilar</cp:lastModifiedBy>
  <dcterms:modified xsi:type="dcterms:W3CDTF">2012-03-08T20:09:50Z</dcterms:modified>
  <cp:revision>3</cp:revision>
  <dc:subject/>
  <dc:title>Diapositiva 1</dc:title>
</cp:coreProperties>
</file>