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4C9-18AD-4E3D-BCA8-84AFF889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E93-BBD1-4BA5-831D-316BB4A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3E5-E9E1-4670-8F16-955691F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A00-E9EE-48E4-818E-8EED9421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222-4C6C-4AF0-99D3-E6FD610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E7D-6936-4662-9646-F6F1486E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37E-E559-4C0B-B491-A6B616F0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996-DAE7-4323-B428-4D72211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F5A-F4A0-4A8A-BEB7-E2E14E0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726-6332-49C5-86ED-A989FC2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788-1F8D-43D2-8C5D-61B04757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DA2-48DD-46EC-A20D-378794B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C78-A39F-4EC6-900B-02267BAA9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708280"/>
            <a:ext cx="2384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2060640"/>
            <a:ext cx="1089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0464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enc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2360" y="3213000"/>
            <a:ext cx="403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7*7*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1916280"/>
            <a:ext cx="1511280" cy="165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205000"/>
            <a:ext cx="3384720" cy="37432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92360" y="2060640"/>
            <a:ext cx="43164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635280" y="5517720"/>
            <a:ext cx="1152720" cy="574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360" y="5805360"/>
            <a:ext cx="259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base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51640" y="184464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xponente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División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4931280" y="393264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653000"/>
            <a:ext cx="158292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5964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4797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12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0836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3213000"/>
            <a:ext cx="2014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19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357720"/>
            <a:ext cx="26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9564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6600"/>
                </a:solidFill>
                <a:uFillTx/>
                <a:latin typeface="Arial"/>
              </a:rPr>
              <a:t>Potencia de una po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416720" cy="7923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Base </a:t>
            </a:r>
            <a:r>
              <a:rPr b="0" lang="es-ES" sz="4000" spc="-1" strike="noStrike" baseline="30000">
                <a:solidFill>
                  <a:srgbClr val="ff3300"/>
                </a:solidFill>
                <a:latin typeface="Arial"/>
              </a:rPr>
              <a:t>exp1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4000" spc="-1" strike="noStrike" baseline="30000">
                <a:solidFill>
                  <a:srgbClr val="0033cc"/>
                </a:solidFill>
                <a:latin typeface="Arial"/>
              </a:rPr>
              <a:t>ex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3500280"/>
            <a:ext cx="8209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5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s-ES" sz="5400" spc="-1" strike="noStrike" baseline="30000">
                <a:solidFill>
                  <a:srgbClr val="ff99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s-ES" sz="5400" spc="-1" strike="noStrike" baseline="30000">
                <a:solidFill>
                  <a:srgbClr val="0066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3213000"/>
            <a:ext cx="16556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8000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357720"/>
            <a:ext cx="172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3213000"/>
            <a:ext cx="0" cy="360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1636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581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59280" y="4292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9933"/>
                </a:solidFill>
                <a:uFillTx/>
                <a:latin typeface="Arial"/>
              </a:rPr>
              <a:t>Orden en las op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éntesi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9933"/>
                </a:solidFill>
                <a:latin typeface="Arial"/>
              </a:rPr>
              <a:t>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s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s-ES" sz="4400" spc="-1" strike="noStrike" baseline="30000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ltiplicación y división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ma y resta </a:t>
            </a:r>
            <a:r>
              <a:rPr b="0" lang="es-E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65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-&gt; cinco elevado al cub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le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dra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l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u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ui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x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épt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do a la 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c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979640" y="333360"/>
            <a:ext cx="152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74680"/>
          <a:ext cx="8229600" cy="5821200"/>
        </p:xfrm>
        <a:graphic>
          <a:graphicData uri="http://schemas.openxmlformats.org/drawingml/2006/table">
            <a:tbl>
              <a:tblPr/>
              <a:tblGrid>
                <a:gridCol w="1378080"/>
                <a:gridCol w="4108320"/>
                <a:gridCol w="2743200"/>
              </a:tblGrid>
              <a:tr h="836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tencias co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s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ase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*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10*10*10*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escomponer en base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2.346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.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8 * 10</a:t>
            </a:r>
            <a:r>
              <a:rPr b="0" lang="es-ES" sz="32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6600"/>
                </a:solidFill>
                <a:latin typeface="Arial"/>
              </a:rPr>
              <a:t>2 * 10</a:t>
            </a:r>
            <a:r>
              <a:rPr b="0" lang="es-ES" sz="3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0033cc"/>
                </a:solidFill>
                <a:latin typeface="Arial"/>
              </a:rPr>
              <a:t>3 * 10</a:t>
            </a:r>
            <a:r>
              <a:rPr b="0" lang="es-E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" sz="3200" spc="-1" strike="noStrike">
                <a:solidFill>
                  <a:srgbClr val="ff99ff"/>
                </a:solidFill>
                <a:latin typeface="Arial"/>
              </a:rPr>
              <a:t>4 * 1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63640" y="270828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86064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35280" y="2781360"/>
            <a:ext cx="936720" cy="576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3860640"/>
            <a:ext cx="0" cy="648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08360" y="2708280"/>
            <a:ext cx="360360" cy="6494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89360"/>
            <a:ext cx="0" cy="71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781360"/>
            <a:ext cx="358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956720" y="3933720"/>
            <a:ext cx="288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8280"/>
            <a:ext cx="71280" cy="6494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933720"/>
            <a:ext cx="0" cy="5749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Simplific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15.600 = 156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230 = 23 *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34.000.000 = 34 * 10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6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opiedades de las pote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484280"/>
            <a:ext cx="4248000" cy="4411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s-ES" sz="4000" spc="-1" strike="noStrike" u="sng">
                <a:solidFill>
                  <a:srgbClr val="ff3300"/>
                </a:solidFill>
                <a:uFillTx/>
                <a:latin typeface="Arial"/>
              </a:rPr>
              <a:t> =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34.6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1484280"/>
            <a:ext cx="4105080" cy="44114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Base</a:t>
            </a:r>
            <a:r>
              <a:rPr b="1" lang="es-ES" sz="4000" spc="-1" strike="noStrike" u="sng" baseline="30000">
                <a:solidFill>
                  <a:srgbClr val="0033cc"/>
                </a:solidFill>
                <a:uFillTx/>
                <a:latin typeface="Arial"/>
              </a:rPr>
              <a:t>0</a:t>
            </a:r>
            <a:r>
              <a:rPr b="1" lang="es-ES" sz="4000" spc="-1" strike="noStrike" u="sng">
                <a:solidFill>
                  <a:srgbClr val="0033cc"/>
                </a:solidFill>
                <a:uFillTx/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4.678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4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Producto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Base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exp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 baseline="30000">
                <a:solidFill>
                  <a:srgbClr val="006600"/>
                </a:solidFill>
                <a:latin typeface="Arial"/>
              </a:rPr>
              <a:t>3x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5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3357720"/>
            <a:ext cx="439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00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213000"/>
            <a:ext cx="3527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4036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65300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0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269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6836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3300"/>
                </a:solidFill>
                <a:uFillTx/>
                <a:latin typeface="Arial"/>
              </a:rPr>
              <a:t>Producto de potencias mismo exponente</a:t>
            </a:r>
            <a:br>
              <a:rPr sz="3600"/>
            </a:br>
            <a:r>
              <a:rPr b="0" lang="es-ES" sz="3600" spc="-1" strike="noStrike" u="sng">
                <a:solidFill>
                  <a:srgbClr val="ff3300"/>
                </a:solidFill>
                <a:uFillTx/>
                <a:latin typeface="Arial"/>
              </a:rPr>
              <a:t>(exponente = exponen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713800" cy="648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Base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Base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Base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500280"/>
            <a:ext cx="820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5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5400" spc="-1" strike="noStrike">
                <a:solidFill>
                  <a:srgbClr val="ff99ff"/>
                </a:solidFill>
                <a:latin typeface="Arial"/>
              </a:rPr>
              <a:t>32</a:t>
            </a:r>
            <a:r>
              <a:rPr b="0" lang="es-E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s-ES" sz="6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60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472000" y="3608280"/>
            <a:ext cx="432000" cy="1657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44"/>
                </a:lnTo>
                <a:cubicBezTo>
                  <a:pt x="10800" y="8844"/>
                  <a:pt x="5400" y="9744"/>
                  <a:pt x="0" y="9744"/>
                </a:cubicBezTo>
                <a:cubicBezTo>
                  <a:pt x="5400" y="9744"/>
                  <a:pt x="10800" y="10644"/>
                  <a:pt x="10800" y="1154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653000"/>
            <a:ext cx="22320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12000" y="4221000"/>
            <a:ext cx="0" cy="4320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357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0000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3213000"/>
            <a:ext cx="33832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3068640"/>
            <a:ext cx="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64000" y="3068280"/>
            <a:ext cx="0" cy="5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3068640"/>
            <a:ext cx="26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479736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04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5128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56000" y="407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División de potencias misma base</a:t>
            </a:r>
            <a:br>
              <a:rPr sz="3600"/>
            </a:br>
            <a:r>
              <a:rPr b="1" lang="es-ES" sz="3600" spc="-1" strike="noStrike" u="sng">
                <a:solidFill>
                  <a:srgbClr val="0033cc"/>
                </a:solidFill>
                <a:uFillTx/>
                <a:latin typeface="Arial"/>
              </a:rPr>
              <a:t>(base = 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6048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e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Base</a:t>
            </a:r>
            <a:r>
              <a:rPr b="0" lang="es-ES" sz="2400" spc="-1" strike="noStrike" baseline="30000">
                <a:solidFill>
                  <a:srgbClr val="ff3300"/>
                </a:solidFill>
                <a:latin typeface="Arial"/>
              </a:rPr>
              <a:t>exp.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 baseline="30000">
                <a:solidFill>
                  <a:srgbClr val="0033cc"/>
                </a:solidFill>
                <a:latin typeface="Arial"/>
              </a:rPr>
              <a:t>ex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00280"/>
            <a:ext cx="820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s-ES" sz="6000" spc="-1" strike="noStrike" baseline="30000">
                <a:solidFill>
                  <a:srgbClr val="ff99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s-ES" sz="6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6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s-ES" sz="6000" spc="-1" strike="noStrike" baseline="30000">
                <a:solidFill>
                  <a:srgbClr val="006600"/>
                </a:solidFill>
                <a:latin typeface="Arial"/>
              </a:rPr>
              <a:t>4</a:t>
            </a: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3213000"/>
            <a:ext cx="20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3213000"/>
            <a:ext cx="0" cy="43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3357720"/>
            <a:ext cx="0" cy="28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3357720"/>
            <a:ext cx="295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68360" y="3357720"/>
            <a:ext cx="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5928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465300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0800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06:02Z</dcterms:created>
  <dc:creator>WinuE</dc:creator>
  <dc:description/>
  <dc:language>en-US</dc:language>
  <cp:lastModifiedBy>pilar</cp:lastModifiedBy>
  <dcterms:modified xsi:type="dcterms:W3CDTF">2012-03-08T20:09:50Z</dcterms:modified>
  <cp:revision>3</cp:revision>
  <dc:subject/>
  <dc:title>Diapositiva 1</dc:title>
</cp:coreProperties>
</file>