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962-D1A6-400C-B5A2-0FB99308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C30-4D1C-4A4A-BAE1-EF00819A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458F-845C-45CB-8305-E6C924F6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FF9F-70DB-4839-AB15-72C3BE32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0BA-ABAC-4711-AC66-A274D6A7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36B-65F2-44E0-A879-ADDFF603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41C-91CF-4A84-85BA-C74E520B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569-BA9A-47C9-BF7D-72AA6544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410E-16C1-4078-A2E9-7079FB2B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C92D-9E9F-42FC-8B5F-503503E7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F3D6-9DB9-45DB-8EC1-3D363421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B8A-8704-4552-AB01-7E2CA240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8DDC-2778-4E78-ADA2-CB39B2D15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2708280"/>
            <a:ext cx="23846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067280" y="2060640"/>
            <a:ext cx="10890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404640"/>
            <a:ext cx="56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otenci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32360" y="3213000"/>
            <a:ext cx="4032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7*7*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1916280"/>
            <a:ext cx="1511280" cy="1657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205000"/>
            <a:ext cx="3384720" cy="37432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292360" y="2060640"/>
            <a:ext cx="431640" cy="3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3635280" y="5517720"/>
            <a:ext cx="1152720" cy="574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32360" y="5805360"/>
            <a:ext cx="2592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base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651640" y="1844640"/>
            <a:ext cx="309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exponente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3300"/>
                </a:solidFill>
                <a:uFillTx/>
                <a:latin typeface="Arial"/>
              </a:rPr>
              <a:t>División de potencias mismo exponente</a:t>
            </a:r>
            <a:br>
              <a:rPr sz="3600"/>
            </a:br>
            <a:r>
              <a:rPr b="0" lang="es-ES" sz="3600" spc="-1" strike="noStrike" u="sng">
                <a:solidFill>
                  <a:srgbClr val="ff3300"/>
                </a:solidFill>
                <a:uFillTx/>
                <a:latin typeface="Arial"/>
              </a:rPr>
              <a:t>(exponente = exponen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8713800" cy="648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Base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Base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Base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Base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3500280"/>
            <a:ext cx="8209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5400" spc="-1" strike="noStrike">
                <a:solidFill>
                  <a:srgbClr val="ff99ff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4931280" y="3932640"/>
            <a:ext cx="432000" cy="1008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944"/>
                </a:lnTo>
                <a:cubicBezTo>
                  <a:pt x="10800" y="8844"/>
                  <a:pt x="5400" y="9744"/>
                  <a:pt x="0" y="9744"/>
                </a:cubicBezTo>
                <a:cubicBezTo>
                  <a:pt x="5400" y="9744"/>
                  <a:pt x="10800" y="10644"/>
                  <a:pt x="10800" y="1154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4653000"/>
            <a:ext cx="1582920" cy="0"/>
          </a:xfrm>
          <a:prstGeom prst="line">
            <a:avLst/>
          </a:prstGeom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659640" y="4221000"/>
            <a:ext cx="0" cy="43200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5928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56000" y="479736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01200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70836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55600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5928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3500280"/>
            <a:ext cx="8209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5400" spc="-1" strike="noStrike">
                <a:solidFill>
                  <a:srgbClr val="ff99ff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5928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3500280"/>
            <a:ext cx="8209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5400" spc="-1" strike="noStrike">
                <a:solidFill>
                  <a:srgbClr val="ff99ff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3500280"/>
            <a:ext cx="8209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5400" spc="-1" strike="noStrike">
                <a:solidFill>
                  <a:srgbClr val="ff99ff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5928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6600"/>
                </a:solidFill>
                <a:uFillTx/>
                <a:latin typeface="Arial"/>
              </a:rPr>
              <a:t>Potencia de una pot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416720" cy="7923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Base </a:t>
            </a:r>
            <a:r>
              <a:rPr b="0" lang="es-ES" sz="4000" spc="-1" strike="noStrike" baseline="30000">
                <a:solidFill>
                  <a:srgbClr val="ff3300"/>
                </a:solidFill>
                <a:latin typeface="Arial"/>
              </a:rPr>
              <a:t>exp1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4000" spc="-1" strike="noStrike" baseline="30000">
                <a:solidFill>
                  <a:srgbClr val="0033cc"/>
                </a:solidFill>
                <a:latin typeface="Arial"/>
              </a:rPr>
              <a:t>exp2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Base </a:t>
            </a:r>
            <a:r>
              <a:rPr b="0" lang="es-ES" sz="4000" spc="-1" strike="noStrike" baseline="30000">
                <a:solidFill>
                  <a:srgbClr val="ff3300"/>
                </a:solidFill>
                <a:latin typeface="Arial"/>
              </a:rPr>
              <a:t>exp1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4000" spc="-1" strike="noStrike" baseline="30000">
                <a:solidFill>
                  <a:srgbClr val="0033cc"/>
                </a:solidFill>
                <a:latin typeface="Arial"/>
              </a:rPr>
              <a:t>exp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3500280"/>
            <a:ext cx="8209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es-ES" sz="5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5</a:t>
            </a:r>
            <a:r>
              <a:rPr b="0" lang="es-ES" sz="5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54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0" lang="es-ES" sz="5400" spc="-1" strike="noStrike" baseline="30000">
                <a:solidFill>
                  <a:srgbClr val="ff99ff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(7</a:t>
            </a:r>
            <a:r>
              <a:rPr b="0" lang="es-ES" sz="5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33cc"/>
                </a:solidFill>
                <a:latin typeface="Arial"/>
              </a:rPr>
              <a:t>4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7</a:t>
            </a:r>
            <a:r>
              <a:rPr b="0" lang="es-ES" sz="5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5400" spc="-1" strike="noStrike" baseline="30000">
                <a:solidFill>
                  <a:srgbClr val="0033cc"/>
                </a:solidFill>
                <a:latin typeface="Arial"/>
              </a:rPr>
              <a:t>4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7</a:t>
            </a:r>
            <a:r>
              <a:rPr b="0" lang="es-ES" sz="5400" spc="-1" strike="noStrike" baseline="30000">
                <a:solidFill>
                  <a:srgbClr val="0066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0364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80000" y="3213000"/>
            <a:ext cx="165564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78000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3357720"/>
            <a:ext cx="1726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35640" y="3213000"/>
            <a:ext cx="0" cy="36036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716360" y="4292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458136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059280" y="4292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9933"/>
                </a:solidFill>
                <a:uFillTx/>
                <a:latin typeface="Arial"/>
              </a:rPr>
              <a:t>Orden en las oper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aréntesis </a:t>
            </a:r>
            <a:r>
              <a:rPr b="0" lang="es-E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ff9933"/>
                </a:solidFill>
                <a:latin typeface="Arial"/>
              </a:rPr>
              <a:t>(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tencias </a:t>
            </a:r>
            <a:r>
              <a:rPr b="0" lang="es-E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es-ES" sz="4400" spc="-1" strike="noStrike" baseline="30000">
                <a:solidFill>
                  <a:srgbClr val="0033cc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ultiplicación y división </a:t>
            </a:r>
            <a:r>
              <a:rPr b="0" lang="es-E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33cc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uma y resta </a:t>
            </a:r>
            <a:r>
              <a:rPr b="0" lang="es-E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2098800"/>
                <a:gridCol w="6130800"/>
              </a:tblGrid>
              <a:tr h="650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-&gt; cinco elevado al cub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le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l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uadrad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l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ub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 la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uar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 la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quin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 la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ex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 la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épti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 la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cta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 txBox="1"/>
          <p:nvPr/>
        </p:nvSpPr>
        <p:spPr>
          <a:xfrm>
            <a:off x="1979640" y="333360"/>
            <a:ext cx="152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274680"/>
          <a:ext cx="8229600" cy="5821200"/>
        </p:xfrm>
        <a:graphic>
          <a:graphicData uri="http://schemas.openxmlformats.org/drawingml/2006/table">
            <a:tbl>
              <a:tblPr/>
              <a:tblGrid>
                <a:gridCol w="1378080"/>
                <a:gridCol w="4108320"/>
                <a:gridCol w="2743200"/>
              </a:tblGrid>
              <a:tr h="836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otencias con base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omposi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base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*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10*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10*10*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10*10*10*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Descomponer en base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2.346= </a:t>
            </a: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80.0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6600"/>
                </a:solidFill>
                <a:latin typeface="Arial"/>
              </a:rPr>
              <a:t>2.0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33cc"/>
                </a:solidFill>
                <a:latin typeface="Arial"/>
              </a:rPr>
              <a:t>3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ff99ff"/>
                </a:solidFill>
                <a:latin typeface="Arial"/>
              </a:rPr>
              <a:t>4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8 * 10.0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6600"/>
                </a:solidFill>
                <a:latin typeface="Arial"/>
              </a:rPr>
              <a:t>2 * 10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33cc"/>
                </a:solidFill>
                <a:latin typeface="Arial"/>
              </a:rPr>
              <a:t>3 * 1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ff99ff"/>
                </a:solidFill>
                <a:latin typeface="Arial"/>
              </a:rPr>
              <a:t>4 * 1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8 * 10</a:t>
            </a:r>
            <a:r>
              <a:rPr b="0" lang="es-ES" sz="3200" spc="-1" strike="noStrike" baseline="30000">
                <a:solidFill>
                  <a:srgbClr val="ff3300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6600"/>
                </a:solidFill>
                <a:latin typeface="Arial"/>
              </a:rPr>
              <a:t>2 * 10</a:t>
            </a:r>
            <a:r>
              <a:rPr b="0" lang="es-ES" sz="32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33cc"/>
                </a:solidFill>
                <a:latin typeface="Arial"/>
              </a:rPr>
              <a:t>3 * 10</a:t>
            </a:r>
            <a:r>
              <a:rPr b="0" lang="es-ES" sz="32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ff99ff"/>
                </a:solidFill>
                <a:latin typeface="Arial"/>
              </a:rPr>
              <a:t>4 * 1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63640" y="2708280"/>
            <a:ext cx="936720" cy="57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3860640"/>
            <a:ext cx="0" cy="5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635280" y="2781360"/>
            <a:ext cx="936720" cy="57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3860640"/>
            <a:ext cx="0" cy="64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635280" y="2781360"/>
            <a:ext cx="936720" cy="576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3860640"/>
            <a:ext cx="0" cy="648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508360" y="2708280"/>
            <a:ext cx="360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3789360"/>
            <a:ext cx="0" cy="719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508360" y="2708280"/>
            <a:ext cx="360360" cy="64944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3789360"/>
            <a:ext cx="0" cy="7192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708280"/>
            <a:ext cx="7128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3933720"/>
            <a:ext cx="0" cy="57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85080" y="2781360"/>
            <a:ext cx="358920" cy="64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956720" y="3933720"/>
            <a:ext cx="288720" cy="64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85080" y="2781360"/>
            <a:ext cx="3589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956720" y="3933720"/>
            <a:ext cx="2887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2708280"/>
            <a:ext cx="71280" cy="64944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3933720"/>
            <a:ext cx="0" cy="57492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Simplific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34.000 = 34 * 10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15.600 = 156 * 10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230 = 23 *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34.000.000 = 34 * 10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42920" y="692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Propiedades de las pote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484280"/>
            <a:ext cx="4248000" cy="4411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3300"/>
                </a:solidFill>
                <a:uFillTx/>
                <a:latin typeface="Arial"/>
              </a:rPr>
              <a:t>Base</a:t>
            </a:r>
            <a:r>
              <a:rPr b="1" lang="es-ES" sz="4000" spc="-1" strike="noStrike" u="sng" baseline="30000">
                <a:solidFill>
                  <a:srgbClr val="ff3300"/>
                </a:solidFill>
                <a:uFillTx/>
                <a:latin typeface="Arial"/>
              </a:rPr>
              <a:t>1</a:t>
            </a:r>
            <a:r>
              <a:rPr b="1" lang="es-ES" sz="4000" spc="-1" strike="noStrike" u="sng">
                <a:solidFill>
                  <a:srgbClr val="ff3300"/>
                </a:solidFill>
                <a:uFillTx/>
                <a:latin typeface="Arial"/>
              </a:rPr>
              <a:t> = 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4.678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34.67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1484280"/>
            <a:ext cx="4105080" cy="44114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33cc"/>
                </a:solidFill>
                <a:uFillTx/>
                <a:latin typeface="Arial"/>
              </a:rPr>
              <a:t>Base</a:t>
            </a:r>
            <a:r>
              <a:rPr b="1" lang="es-ES" sz="4000" spc="-1" strike="noStrike" u="sng" baseline="30000">
                <a:solidFill>
                  <a:srgbClr val="0033cc"/>
                </a:solidFill>
                <a:uFillTx/>
                <a:latin typeface="Arial"/>
              </a:rPr>
              <a:t>0</a:t>
            </a:r>
            <a:r>
              <a:rPr b="1" lang="es-ES" sz="4000" spc="-1" strike="noStrike" u="sng">
                <a:solidFill>
                  <a:srgbClr val="0033cc"/>
                </a:solidFill>
                <a:uFillTx/>
                <a:latin typeface="Arial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4.678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33cc"/>
                </a:solidFill>
                <a:uFillTx/>
                <a:latin typeface="Arial"/>
              </a:rPr>
              <a:t>Producto de potencias misma base</a:t>
            </a:r>
            <a:br>
              <a:rPr sz="3600"/>
            </a:br>
            <a:r>
              <a:rPr b="1" lang="es-ES" sz="3600" spc="-1" strike="noStrike" u="sng">
                <a:solidFill>
                  <a:srgbClr val="0033cc"/>
                </a:solidFill>
                <a:uFillTx/>
                <a:latin typeface="Arial"/>
              </a:rPr>
              <a:t>(base = 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6048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s-ES" sz="2400" spc="-1" strike="noStrike" baseline="30000">
                <a:solidFill>
                  <a:srgbClr val="ff3300"/>
                </a:solidFill>
                <a:latin typeface="Arial"/>
              </a:rPr>
              <a:t>exp.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* Base</a:t>
            </a:r>
            <a:r>
              <a:rPr b="0" lang="es-ES" sz="2400" spc="-1" strike="noStrike" baseline="30000">
                <a:solidFill>
                  <a:srgbClr val="0033cc"/>
                </a:solidFill>
                <a:latin typeface="Arial"/>
              </a:rPr>
              <a:t>exp.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* Base</a:t>
            </a:r>
            <a:r>
              <a:rPr b="0" lang="es-ES" sz="2400" spc="-1" strike="noStrike" baseline="30000">
                <a:solidFill>
                  <a:srgbClr val="006600"/>
                </a:solidFill>
                <a:latin typeface="Arial"/>
              </a:rPr>
              <a:t>exp.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Base</a:t>
            </a:r>
            <a:r>
              <a:rPr b="0" lang="es-ES" sz="2400" spc="-1" strike="noStrike" baseline="30000">
                <a:solidFill>
                  <a:srgbClr val="ff3300"/>
                </a:solidFill>
                <a:latin typeface="Arial"/>
              </a:rPr>
              <a:t>exp.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 baseline="30000">
                <a:solidFill>
                  <a:srgbClr val="0033cc"/>
                </a:solidFill>
                <a:latin typeface="Arial"/>
              </a:rPr>
              <a:t>exp.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 baseline="30000">
                <a:solidFill>
                  <a:srgbClr val="006600"/>
                </a:solidFill>
                <a:latin typeface="Arial"/>
              </a:rPr>
              <a:t>3xp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3500280"/>
            <a:ext cx="8209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5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5</a:t>
            </a:r>
            <a:r>
              <a:rPr b="0" lang="es-ES" sz="6000" spc="-1" strike="noStrike" baseline="30000">
                <a:solidFill>
                  <a:srgbClr val="006600"/>
                </a:solidFill>
                <a:latin typeface="Arial"/>
              </a:rPr>
              <a:t>4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6000" spc="-1" strike="noStrike" baseline="30000">
                <a:solidFill>
                  <a:srgbClr val="006600"/>
                </a:solidFill>
                <a:latin typeface="Arial"/>
              </a:rPr>
              <a:t>4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s-ES" sz="6000" spc="-1" strike="noStrike" baseline="30000">
                <a:solidFill>
                  <a:srgbClr val="ff99ff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5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3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5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s-ES" sz="6000" spc="-1" strike="noStrike" baseline="30000">
                <a:solidFill>
                  <a:srgbClr val="006600"/>
                </a:solidFill>
                <a:latin typeface="Arial"/>
              </a:rPr>
              <a:t>7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465300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70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364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3357720"/>
            <a:ext cx="43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70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140360" y="3068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258920" y="3357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00360" y="3213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21300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35772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27640" y="3213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04000" y="3068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321300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3213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700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3213000"/>
            <a:ext cx="35272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27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8920" y="3357720"/>
            <a:ext cx="43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258920" y="3357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3357720"/>
            <a:ext cx="4392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25892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140360" y="3068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04000" y="3068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40360" y="3068280"/>
            <a:ext cx="0" cy="576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04000" y="3068640"/>
            <a:ext cx="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3357720"/>
            <a:ext cx="4392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25892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3357720"/>
            <a:ext cx="4392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25892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700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3213000"/>
            <a:ext cx="35272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27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700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3213000"/>
            <a:ext cx="35272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40360" y="3068280"/>
            <a:ext cx="0" cy="576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3068640"/>
            <a:ext cx="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140360" y="3068280"/>
            <a:ext cx="0" cy="576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70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364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0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465300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64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70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3300"/>
                </a:solidFill>
                <a:uFillTx/>
                <a:latin typeface="Arial"/>
              </a:rPr>
              <a:t>Producto de potencias mismo exponente</a:t>
            </a:r>
            <a:br>
              <a:rPr sz="3600"/>
            </a:br>
            <a:r>
              <a:rPr b="0" lang="es-ES" sz="3600" spc="-1" strike="noStrike" u="sng">
                <a:solidFill>
                  <a:srgbClr val="ff3300"/>
                </a:solidFill>
                <a:uFillTx/>
                <a:latin typeface="Arial"/>
              </a:rPr>
              <a:t>(exponente = exponen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8713800" cy="648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Base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Base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Base3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Base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Base2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Base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3500280"/>
            <a:ext cx="8209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5400" spc="-1" strike="noStrike">
                <a:solidFill>
                  <a:srgbClr val="ff99ff"/>
                </a:solidFill>
                <a:latin typeface="Arial"/>
              </a:rPr>
              <a:t>3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6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6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6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6000" spc="-1" strike="noStrike">
                <a:solidFill>
                  <a:srgbClr val="006600"/>
                </a:solidFill>
                <a:latin typeface="Arial"/>
              </a:rPr>
              <a:t>6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5472000" y="3608280"/>
            <a:ext cx="432000" cy="1657440"/>
          </a:xfrm>
          <a:custGeom>
            <a:avLst/>
            <a:gdLst>
              <a:gd name="textAreaLeft" fmla="*/ 276120 w 432000"/>
              <a:gd name="textAreaRight" fmla="*/ 432360 w 43200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944"/>
                </a:lnTo>
                <a:cubicBezTo>
                  <a:pt x="10800" y="8844"/>
                  <a:pt x="5400" y="9744"/>
                  <a:pt x="0" y="9744"/>
                </a:cubicBezTo>
                <a:cubicBezTo>
                  <a:pt x="5400" y="9744"/>
                  <a:pt x="10800" y="10644"/>
                  <a:pt x="10800" y="1154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0000" y="4653000"/>
            <a:ext cx="2232000" cy="0"/>
          </a:xfrm>
          <a:prstGeom prst="line">
            <a:avLst/>
          </a:prstGeom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812000" y="4221000"/>
            <a:ext cx="0" cy="43200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3357720"/>
            <a:ext cx="4032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90000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68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8360" y="3213000"/>
            <a:ext cx="33832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7640" y="3068640"/>
            <a:ext cx="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564000" y="3068280"/>
            <a:ext cx="0" cy="576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64000" y="3068640"/>
            <a:ext cx="26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4797360"/>
            <a:ext cx="55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80400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85128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5892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55600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33cc"/>
                </a:solidFill>
                <a:uFillTx/>
                <a:latin typeface="Arial"/>
              </a:rPr>
              <a:t>División de potencias misma base</a:t>
            </a:r>
            <a:br>
              <a:rPr sz="3600"/>
            </a:br>
            <a:r>
              <a:rPr b="1" lang="es-ES" sz="3600" spc="-1" strike="noStrike" u="sng">
                <a:solidFill>
                  <a:srgbClr val="0033cc"/>
                </a:solidFill>
                <a:uFillTx/>
                <a:latin typeface="Arial"/>
              </a:rPr>
              <a:t>(base = 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6048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s-ES" sz="2400" spc="-1" strike="noStrike" baseline="30000">
                <a:solidFill>
                  <a:srgbClr val="ff3300"/>
                </a:solidFill>
                <a:latin typeface="Arial"/>
              </a:rPr>
              <a:t>exp.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Base</a:t>
            </a:r>
            <a:r>
              <a:rPr b="0" lang="es-ES" sz="2400" spc="-1" strike="noStrike" baseline="30000">
                <a:solidFill>
                  <a:srgbClr val="0033cc"/>
                </a:solidFill>
                <a:latin typeface="Arial"/>
              </a:rPr>
              <a:t>exp.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Base</a:t>
            </a:r>
            <a:r>
              <a:rPr b="0" lang="es-ES" sz="2400" spc="-1" strike="noStrike" baseline="30000">
                <a:solidFill>
                  <a:srgbClr val="ff3300"/>
                </a:solidFill>
                <a:latin typeface="Arial"/>
              </a:rPr>
              <a:t>exp.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 baseline="30000">
                <a:solidFill>
                  <a:srgbClr val="0033cc"/>
                </a:solidFill>
                <a:latin typeface="Arial"/>
              </a:rPr>
              <a:t>exp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3500280"/>
            <a:ext cx="8209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5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5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s-ES" sz="6000" spc="-1" strike="noStrike" baseline="30000">
                <a:solidFill>
                  <a:srgbClr val="ff99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7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3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7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s-ES" sz="6000" spc="-1" strike="noStrike" baseline="30000">
                <a:solidFill>
                  <a:srgbClr val="006600"/>
                </a:solidFill>
                <a:latin typeface="Arial"/>
              </a:rPr>
              <a:t>4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4653000"/>
            <a:ext cx="29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85928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348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08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708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8360" y="3213000"/>
            <a:ext cx="2016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24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1964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3357720"/>
            <a:ext cx="295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26836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8000" y="4653000"/>
            <a:ext cx="29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908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85928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4653000"/>
            <a:ext cx="29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908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1:06:02Z</dcterms:created>
  <dc:creator>WinuE</dc:creator>
  <dc:description/>
  <dc:language>en-US</dc:language>
  <cp:lastModifiedBy>pilar</cp:lastModifiedBy>
  <dcterms:modified xsi:type="dcterms:W3CDTF">2012-03-08T20:09:50Z</dcterms:modified>
  <cp:revision>3</cp:revision>
  <dc:subject/>
  <dc:title>Diapositiva 1</dc:title>
</cp:coreProperties>
</file>